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51E-70C4-4941-A23C-7220AD13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83B-5A22-4D27-9F9D-AB8229B2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B15-A4E4-47E0-AB73-94F9BB93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E6F-7015-4348-B815-57629BCE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C98-A739-4E95-A06C-CFC1FC54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F9E9-3516-4F61-9170-C2597C20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7668-AEAE-496B-BA5A-57A586ED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910-5D2B-435D-8A9C-BEE0AF68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B0B-F8D4-4882-AED9-08E8E0B6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3B67-85C7-4810-8A3B-D3AED068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D8B2-7DDE-43F2-B9F4-8DD6DC84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C2FB-C17A-4A9E-AEAE-1A47FF26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6545-0905-4913-AB64-CF91DD207D5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omitheus.gov.gr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ΥΜΠΛΗΡΩΣΗ ΚΑΙ ΥΠΟΒΟΛΗ ΤΟΥ ΕΕ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1341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Συνδεθείτε στη νέα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ηλεκτρονική υπηρεσία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mitheus ESDP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μέσω της ηλεκτρονικής διεύθυνσης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promitheus.gov.g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900000" y="1838160"/>
            <a:ext cx="68374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η συνέχεια επιλέγετε Ελληνι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31708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οίγει η ακόλουθη σελίδα στην οποία κάνετε τις εξής επιλογέ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0" y="1628640"/>
            <a:ext cx="9072720" cy="3781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3348000" y="5373720"/>
            <a:ext cx="22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Επιλέγετε δηλαδή το αρχείο ΕΕΕΣ ή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espd xml, </a:t>
            </a: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δηλαδή σε μορφή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xml </a:t>
            </a: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που υπάρχει στο σύστημα ΕΣΗΔΗΣ και έχει αναρτήσει η ΠΕ Φλώρινας στον διαγωνισμό με αριθμό 3804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ύνταξη Ευρωπαϊκού Ενιαίου Εγγράφου Σύμβασης - ΕΕ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Στα στοιχεία δημοσίευσης οι οικονομικοί φορείς θα συμπληρώσουν  μόνο το τρίτο πεδίο «Δημοσίευση σε εθνικό επίπεδο» δηλαδή θα συμπληρώσουν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romitheus.gov.g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(2</a:t>
            </a:r>
            <a:r>
              <a:rPr b="0" lang="el-GR" sz="1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OC01</a:t>
            </a:r>
            <a:r>
              <a:rPr b="0" lang="el-GR" sz="1200" spc="-1" strike="noStrike">
                <a:solidFill>
                  <a:srgbClr val="ff0000"/>
                </a:solidFill>
                <a:latin typeface="Arial"/>
              </a:rPr>
              <a:t>7653822)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ν αριθμό δηλαδή της ανάρτησης από την Αναθέτουσα Αρχή της διακήρυξης στο ΕΣΗΔΗ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82072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4000" y="1268280"/>
            <a:ext cx="9090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1106640"/>
            <a:ext cx="88930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ήξ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50920" y="1704960"/>
            <a:ext cx="84978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60520" y="1197000"/>
            <a:ext cx="8583480" cy="3044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348000" y="4724280"/>
            <a:ext cx="3200400" cy="12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ΣΤΗ ΣΥΝΕΧΕΙΑ ΑΠΟΘΗΚΕΥΕΤΕ ΤΟ ΕΝΤΥΠΟ ΣΤΟΝ ΥΠΟΛΟΓΙΣΤΗ ΣΑΣ ΚΑΙ ΤΟ ΥΠΟΓΡΑΦΕΤΕ ΨΗΦΙΑΚΑ. ΣΤΗ ΣΥΝΕΧΕΙΑ ΤΟ ΕΠΙΣΥΝΑΠΤΕΤΕ ΣΤΟΝ ΗΛΕΚΤΡΟΝΙΚΟ ΔΙΑΓΩΝΙΣΜΟ 3804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1T11:27:17Z</dcterms:created>
  <dc:creator>ckonstantinidis</dc:creator>
  <dc:description/>
  <dc:language>en-US</dc:language>
  <cp:lastModifiedBy>ΧΡΗΣΤΟΣ ΚΩΝΣΤΑΝΤΙΝΙΔΗΣ2</cp:lastModifiedBy>
  <dcterms:modified xsi:type="dcterms:W3CDTF">2025-10-01T09:32:10Z</dcterms:modified>
  <cp:revision>18</cp:revision>
  <dc:subject/>
  <dc:title>ΣΥΜΠΛΗΡΩΣΗ ΚΑΙ ΥΠΟΒΟΛΗ ΤΟΥ ΕΕΕΣ</dc:title>
</cp:coreProperties>
</file>